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AACA-0CA1-4579-98A9-BB848F4B68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80F-E106-4A5B-9B49-36F6A0BF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692-085B-403F-A656-901C5B1E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6CB-AD35-43A8-AAB9-E38D6F25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5D8E-37B2-4512-8FDF-9F182FD3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02A-673F-40CA-8E77-9DC40B8A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FEA-2446-4BFB-8332-EE346AAB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8E3B-9C3A-41A4-92A5-DA9D1591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4C3-7788-4403-B0DD-74C66F13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009-F42A-4C6E-A53B-BF5EA838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7D5-3B24-4226-BDE9-6AC7A930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46A-68A3-4FEC-BB80-4BCF62DA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05A-DEA0-4A3C-ACFE-DE1C97BA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3D5B-6B19-43CC-86AE-EAD7CFDAB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6720" y="3978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esson Opener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05696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y does a cricket ball curv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lane in flight.jpg"/>
          <p:cNvPicPr/>
          <p:nvPr/>
        </p:nvPicPr>
        <p:blipFill>
          <a:blip r:embed="rId1"/>
          <a:stretch/>
        </p:blipFill>
        <p:spPr>
          <a:xfrm>
            <a:off x="539640" y="2708280"/>
            <a:ext cx="462132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pray-Perfume.jpg"/>
          <p:cNvPicPr/>
          <p:nvPr/>
        </p:nvPicPr>
        <p:blipFill>
          <a:blip r:embed="rId2"/>
          <a:stretch/>
        </p:blipFill>
        <p:spPr>
          <a:xfrm>
            <a:off x="5292720" y="549360"/>
            <a:ext cx="3600360" cy="20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rickett curveball.png"/>
          <p:cNvPicPr/>
          <p:nvPr/>
        </p:nvPicPr>
        <p:blipFill>
          <a:blip r:embed="rId3"/>
          <a:stretch/>
        </p:blipFill>
        <p:spPr>
          <a:xfrm>
            <a:off x="5435640" y="285264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33520" y="5335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’s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762120" y="1295280"/>
                <a:ext cx="7688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5" name="Picture 5" descr="E:\Media\Image_Library\chapter14\1419a.jpg"/>
          <p:cNvPicPr/>
          <p:nvPr/>
        </p:nvPicPr>
        <p:blipFill>
          <a:blip r:embed="rId1"/>
          <a:srcRect l="0" t="0" r="0" b="13624"/>
          <a:stretch/>
        </p:blipFill>
        <p:spPr>
          <a:xfrm>
            <a:off x="76320" y="2362320"/>
            <a:ext cx="4483080" cy="29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4664160" y="2505240"/>
                <a:ext cx="44798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ERNOULLI’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1258920" y="765000"/>
                <a:ext cx="60498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Rectangle 4"/>
          <p:cNvSpPr/>
          <p:nvPr/>
        </p:nvSpPr>
        <p:spPr>
          <a:xfrm>
            <a:off x="0" y="3213000"/>
            <a:ext cx="899172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moving fluid p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onstant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149360" y="206064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DOES A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90756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stana air.jpg"/>
          <p:cNvPicPr/>
          <p:nvPr/>
        </p:nvPicPr>
        <p:blipFill>
          <a:blip r:embed="rId1"/>
          <a:stretch/>
        </p:blipFill>
        <p:spPr>
          <a:xfrm>
            <a:off x="1332000" y="3141720"/>
            <a:ext cx="60483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Airplane Wing is curved on to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fig11_3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40" y="10944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692280"/>
            <a:ext cx="8991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continu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=constant, velocity must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wing provides lift.gif"/>
          <p:cNvPicPr/>
          <p:nvPr/>
        </p:nvPicPr>
        <p:blipFill>
          <a:blip r:embed="rId1"/>
          <a:stretch/>
        </p:blipFill>
        <p:spPr>
          <a:xfrm>
            <a:off x="1403280" y="3429000"/>
            <a:ext cx="6553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2"/>
          <p:cNvSpPr/>
          <p:nvPr/>
        </p:nvSpPr>
        <p:spPr>
          <a:xfrm flipH="1">
            <a:off x="1523520" y="3286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 flipH="1">
            <a:off x="1523520" y="2571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 flipH="1">
            <a:off x="1523520" y="5572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1523520" y="185724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1523520" y="400068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 flipH="1">
            <a:off x="1523520" y="4857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H="1">
            <a:off x="1523520" y="1000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1523520" y="285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1650960" y="3571920"/>
            <a:ext cx="5587560" cy="428400"/>
            <a:chOff x="1650960" y="3571920"/>
            <a:chExt cx="5587560" cy="428400"/>
          </a:xfrm>
        </p:grpSpPr>
        <p:sp>
          <p:nvSpPr>
            <p:cNvPr id="208" name="Line 12"/>
            <p:cNvSpPr/>
            <p:nvPr/>
          </p:nvSpPr>
          <p:spPr>
            <a:xfrm flipH="1">
              <a:off x="5460840" y="400032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H="1" flipV="1">
              <a:off x="3301200" y="357192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 flipH="1">
              <a:off x="1650960" y="357192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1778040" y="1857240"/>
            <a:ext cx="5587560" cy="428400"/>
            <a:chOff x="1778040" y="1857240"/>
            <a:chExt cx="5587560" cy="428400"/>
          </a:xfrm>
        </p:grpSpPr>
        <p:sp>
          <p:nvSpPr>
            <p:cNvPr id="212" name="Line 16"/>
            <p:cNvSpPr/>
            <p:nvPr/>
          </p:nvSpPr>
          <p:spPr>
            <a:xfrm flipH="1">
              <a:off x="5587920" y="185724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 flipH="1">
              <a:off x="3428280" y="185724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 flipH="1">
              <a:off x="1778040" y="228564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19"/>
          <p:cNvSpPr/>
          <p:nvPr/>
        </p:nvSpPr>
        <p:spPr>
          <a:xfrm rot="16200000">
            <a:off x="3889440" y="324288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 rot="16200000">
            <a:off x="3889440" y="58860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1523520" y="293220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420720" y="2476440"/>
            <a:ext cx="1831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4265640" y="428580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4317840" y="85716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413600" y="485784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413600" y="42876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371880" y="5645520"/>
            <a:ext cx="84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0066"/>
                </a:solidFill>
                <a:latin typeface="Arial"/>
              </a:rPr>
              <a:t>What happens when two ships or trucks pass alongside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482616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 flipH="1">
            <a:off x="634968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6350040" y="3286080"/>
            <a:ext cx="12708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 flipH="1">
            <a:off x="5460840" y="3714840"/>
            <a:ext cx="25416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 flipH="1">
            <a:off x="3429000" y="3286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 flipH="1">
            <a:off x="3809880" y="3714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6603480" y="714240"/>
            <a:ext cx="12708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6095880" y="714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5334120" y="714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622296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60292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58420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2666880" y="5000760"/>
            <a:ext cx="1778040" cy="857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4444920" y="4714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2666520" y="5857920"/>
            <a:ext cx="177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 flipV="1">
            <a:off x="2666880" y="47145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3809880" y="37148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3429000" y="3286080"/>
            <a:ext cx="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V="1">
            <a:off x="3643200" y="4000680"/>
            <a:ext cx="0" cy="714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05440" y="3527280"/>
            <a:ext cx="5079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5942160" y="357192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130800" y="3676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4"/>
          <p:cNvSpPr/>
          <p:nvPr/>
        </p:nvSpPr>
        <p:spPr>
          <a:xfrm>
            <a:off x="622296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571500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5948280" y="5143680"/>
            <a:ext cx="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7"/>
          <p:cNvSpPr/>
          <p:nvPr/>
        </p:nvSpPr>
        <p:spPr>
          <a:xfrm>
            <a:off x="6350040" y="5286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8"/>
          <p:cNvSpPr/>
          <p:nvPr/>
        </p:nvSpPr>
        <p:spPr>
          <a:xfrm flipH="1">
            <a:off x="5460480" y="5143680"/>
            <a:ext cx="12708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6410880" y="3191040"/>
            <a:ext cx="2675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3306960" y="3255840"/>
            <a:ext cx="1831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"/>
          <p:cNvSpPr/>
          <p:nvPr/>
        </p:nvSpPr>
        <p:spPr>
          <a:xfrm>
            <a:off x="2921040" y="4143240"/>
            <a:ext cx="0" cy="714600"/>
          </a:xfrm>
          <a:prstGeom prst="line">
            <a:avLst/>
          </a:prstGeom>
          <a:ln w="5724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468360" y="3286080"/>
            <a:ext cx="2084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hi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pres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US" sz="2500" spc="-1" strike="noStrike" baseline="-25000">
                <a:solidFill>
                  <a:srgbClr val="1a0ffd"/>
                </a:solidFill>
                <a:latin typeface="Arial"/>
              </a:rPr>
              <a:t>atm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471600" y="40320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ENTURI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 rot="5400000">
            <a:off x="3698640" y="-1539720"/>
            <a:ext cx="1428840" cy="6794640"/>
          </a:xfrm>
          <a:prstGeom prst="can">
            <a:avLst>
              <a:gd name="adj" fmla="val 94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29000" y="4286160"/>
            <a:ext cx="1905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3521160" y="2133720"/>
            <a:ext cx="1904400" cy="856800"/>
            <a:chOff x="3521160" y="2133720"/>
            <a:chExt cx="1904400" cy="856800"/>
          </a:xfrm>
        </p:grpSpPr>
        <p:sp>
          <p:nvSpPr>
            <p:cNvPr id="259" name="Oval 5"/>
            <p:cNvSpPr/>
            <p:nvPr/>
          </p:nvSpPr>
          <p:spPr>
            <a:xfrm>
              <a:off x="3521160" y="2133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3521160" y="256212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7"/>
          <p:cNvGrpSpPr/>
          <p:nvPr/>
        </p:nvGrpSpPr>
        <p:grpSpPr>
          <a:xfrm>
            <a:off x="3556080" y="703440"/>
            <a:ext cx="1904400" cy="856800"/>
            <a:chOff x="3556080" y="703440"/>
            <a:chExt cx="1904400" cy="856800"/>
          </a:xfrm>
        </p:grpSpPr>
        <p:sp>
          <p:nvSpPr>
            <p:cNvPr id="262" name="Oval 8"/>
            <p:cNvSpPr/>
            <p:nvPr/>
          </p:nvSpPr>
          <p:spPr>
            <a:xfrm flipH="1" flipV="1">
              <a:off x="3556080" y="846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 flipH="1" flipV="1">
              <a:off x="3556080" y="70344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0"/>
          <p:cNvSpPr/>
          <p:nvPr/>
        </p:nvSpPr>
        <p:spPr>
          <a:xfrm>
            <a:off x="5806440" y="1571760"/>
            <a:ext cx="113184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1397160" y="185724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3683160" y="1857240"/>
            <a:ext cx="1650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191120" y="2714760"/>
            <a:ext cx="507600" cy="570960"/>
            <a:chOff x="4191120" y="2714760"/>
            <a:chExt cx="507600" cy="570960"/>
          </a:xfrm>
        </p:grpSpPr>
        <p:sp>
          <p:nvSpPr>
            <p:cNvPr id="268" name="Line 14"/>
            <p:cNvSpPr/>
            <p:nvPr/>
          </p:nvSpPr>
          <p:spPr>
            <a:xfrm flipV="1">
              <a:off x="41911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444528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V="1">
              <a:off x="46987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7"/>
          <p:cNvGrpSpPr/>
          <p:nvPr/>
        </p:nvGrpSpPr>
        <p:grpSpPr>
          <a:xfrm>
            <a:off x="4151160" y="285840"/>
            <a:ext cx="507960" cy="570960"/>
            <a:chOff x="4151160" y="285840"/>
            <a:chExt cx="507960" cy="570960"/>
          </a:xfrm>
        </p:grpSpPr>
        <p:sp>
          <p:nvSpPr>
            <p:cNvPr id="272" name="Line 18"/>
            <p:cNvSpPr/>
            <p:nvPr/>
          </p:nvSpPr>
          <p:spPr>
            <a:xfrm>
              <a:off x="415116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>
              <a:off x="44053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46591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1"/>
          <p:cNvSpPr/>
          <p:nvPr/>
        </p:nvSpPr>
        <p:spPr>
          <a:xfrm>
            <a:off x="4708800" y="3000240"/>
            <a:ext cx="3532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507960" y="2857680"/>
            <a:ext cx="355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Flow speeds up at constri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Pressure is l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1842480" y="54439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rteriosclerosis and vascular f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mitchellscience.com/bernoulli_principle_discussion_no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GRLOgmmz_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phet.colorado.edu/en/simulation/fluid-pressure-and-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s of Fluid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echteacher.com/fluid/#ixzz2fcgGwLb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_aWdeXby7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ernoulli"/>
          <p:cNvPicPr/>
          <p:nvPr/>
        </p:nvPicPr>
        <p:blipFill>
          <a:blip r:embed="rId1"/>
          <a:stretch/>
        </p:blipFill>
        <p:spPr>
          <a:xfrm>
            <a:off x="0" y="0"/>
            <a:ext cx="3851280" cy="4005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8360" y="407736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aniel Bernoulli (1700 – 178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995640" y="260280"/>
            <a:ext cx="5148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rivation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of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rnoulli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924360" y="2060640"/>
            <a:ext cx="504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50920" y="4581360"/>
            <a:ext cx="81374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To describe Bernoulli’s principle and to derive his formul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erms of conservation of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To present applications of the Bernoulli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Bernoulli’s Princip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886200" y="5410080"/>
            <a:ext cx="4191120" cy="152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9343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019680" y="4419720"/>
            <a:ext cx="566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32560" y="6308640"/>
            <a:ext cx="598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55627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426708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5410080" y="5562720"/>
            <a:ext cx="986040" cy="914400"/>
          </a:xfrm>
          <a:custGeom>
            <a:avLst/>
            <a:gdLst>
              <a:gd name="textAreaLeft" fmla="*/ 98640 w 986040"/>
              <a:gd name="textAreaRight" fmla="*/ 887760 w 98604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3"/>
          <p:cNvGrpSpPr/>
          <p:nvPr/>
        </p:nvGrpSpPr>
        <p:grpSpPr>
          <a:xfrm>
            <a:off x="394920" y="333360"/>
            <a:ext cx="8518320" cy="3189960"/>
            <a:chOff x="394920" y="333360"/>
            <a:chExt cx="8518320" cy="3189960"/>
          </a:xfrm>
        </p:grpSpPr>
        <p:sp>
          <p:nvSpPr>
            <p:cNvPr id="68" name="Rectangle 2"/>
            <p:cNvSpPr/>
            <p:nvPr/>
          </p:nvSpPr>
          <p:spPr>
            <a:xfrm>
              <a:off x="395280" y="1922400"/>
              <a:ext cx="336780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"/>
            <p:cNvSpPr/>
            <p:nvPr/>
          </p:nvSpPr>
          <p:spPr>
            <a:xfrm>
              <a:off x="5520240" y="1922400"/>
              <a:ext cx="307476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3616560" y="2149560"/>
              <a:ext cx="2196360" cy="226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1566360" y="7873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4494960" y="1392840"/>
              <a:ext cx="292680" cy="832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6984360" y="8629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8"/>
            <p:cNvSpPr/>
            <p:nvPr/>
          </p:nvSpPr>
          <p:spPr>
            <a:xfrm>
              <a:off x="395280" y="2527920"/>
              <a:ext cx="336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9"/>
            <p:cNvSpPr/>
            <p:nvPr/>
          </p:nvSpPr>
          <p:spPr>
            <a:xfrm>
              <a:off x="3763080" y="2376720"/>
              <a:ext cx="175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H="1">
              <a:off x="5519880" y="2527920"/>
              <a:ext cx="30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H="1">
              <a:off x="394920" y="1922400"/>
              <a:ext cx="11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 flipH="1">
              <a:off x="1859040" y="192240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376272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H="1">
              <a:off x="478764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 flipH="1">
              <a:off x="5519880" y="1922400"/>
              <a:ext cx="146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 flipH="1">
              <a:off x="7277400" y="1922400"/>
              <a:ext cx="131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156636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8"/>
            <p:cNvSpPr/>
            <p:nvPr/>
          </p:nvSpPr>
          <p:spPr>
            <a:xfrm>
              <a:off x="185940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449496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0"/>
            <p:cNvSpPr/>
            <p:nvPr/>
          </p:nvSpPr>
          <p:spPr>
            <a:xfrm>
              <a:off x="478800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>
              <a:off x="6984360" y="345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>
              <a:off x="7277400" y="33840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142020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3909240" y="2755080"/>
              <a:ext cx="14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683784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6"/>
            <p:cNvSpPr/>
            <p:nvPr/>
          </p:nvSpPr>
          <p:spPr>
            <a:xfrm>
              <a:off x="1180800" y="290628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6598800" y="298224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3960360" y="2906280"/>
              <a:ext cx="12736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9"/>
            <p:cNvSpPr/>
            <p:nvPr/>
          </p:nvSpPr>
          <p:spPr>
            <a:xfrm>
              <a:off x="205704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0"/>
            <p:cNvSpPr/>
            <p:nvPr/>
          </p:nvSpPr>
          <p:spPr>
            <a:xfrm>
              <a:off x="762120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1"/>
            <p:cNvSpPr/>
            <p:nvPr/>
          </p:nvSpPr>
          <p:spPr>
            <a:xfrm>
              <a:off x="4988160" y="1316880"/>
              <a:ext cx="1325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4"/>
          <p:cNvGrpSpPr/>
          <p:nvPr/>
        </p:nvGrpSpPr>
        <p:grpSpPr>
          <a:xfrm>
            <a:off x="611280" y="3213000"/>
            <a:ext cx="8137800" cy="3648600"/>
            <a:chOff x="611280" y="3213000"/>
            <a:chExt cx="8137800" cy="3648600"/>
          </a:xfrm>
        </p:grpSpPr>
        <p:sp>
          <p:nvSpPr>
            <p:cNvPr id="99" name="Line 2"/>
            <p:cNvSpPr/>
            <p:nvPr/>
          </p:nvSpPr>
          <p:spPr>
            <a:xfrm flipH="1" flipV="1">
              <a:off x="4598640" y="5031360"/>
              <a:ext cx="17488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"/>
            <p:cNvSpPr/>
            <p:nvPr/>
          </p:nvSpPr>
          <p:spPr>
            <a:xfrm flipH="1">
              <a:off x="4598640" y="3603960"/>
              <a:ext cx="174888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5400000">
              <a:off x="6017760" y="3741120"/>
              <a:ext cx="1697760" cy="1423080"/>
            </a:xfrm>
            <a:prstGeom prst="can">
              <a:avLst>
                <a:gd name="adj" fmla="val 271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"/>
            <p:cNvSpPr/>
            <p:nvPr/>
          </p:nvSpPr>
          <p:spPr>
            <a:xfrm flipH="1" rot="16200000">
              <a:off x="4012560" y="4261320"/>
              <a:ext cx="1086840" cy="453240"/>
            </a:xfrm>
            <a:prstGeom prst="ca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6155280" y="387576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6155280" y="42832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6155280" y="40798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6155280" y="46908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6155280" y="48942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2"/>
            <p:cNvSpPr/>
            <p:nvPr/>
          </p:nvSpPr>
          <p:spPr>
            <a:xfrm rot="5400000">
              <a:off x="6525360" y="4194000"/>
              <a:ext cx="1697760" cy="517680"/>
            </a:xfrm>
            <a:prstGeom prst="can">
              <a:avLst>
                <a:gd name="adj" fmla="val 50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7451640" y="48924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451640" y="46908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451640" y="44866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451640" y="42832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7451640" y="40798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7451640" y="387576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4729320" y="4486680"/>
              <a:ext cx="2331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 flipV="1">
              <a:off x="4729320" y="4623480"/>
              <a:ext cx="1426320" cy="66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 flipV="1">
              <a:off x="4729320" y="4758480"/>
              <a:ext cx="1426320" cy="135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 flipV="1">
              <a:off x="4729320" y="4894200"/>
              <a:ext cx="1426320" cy="203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4729320" y="4283280"/>
              <a:ext cx="1426320" cy="68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4729320" y="4079880"/>
              <a:ext cx="1426320" cy="136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 flipH="1">
              <a:off x="4729320" y="3875760"/>
              <a:ext cx="1426320" cy="204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 flipH="1">
              <a:off x="6155640" y="5097600"/>
              <a:ext cx="971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451640" y="50914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8"/>
            <p:cNvSpPr/>
            <p:nvPr/>
          </p:nvSpPr>
          <p:spPr>
            <a:xfrm>
              <a:off x="1480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4274280" y="3447360"/>
              <a:ext cx="12225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967680" y="525924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3778200" y="513576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34"/>
            <p:cNvGrpSpPr/>
            <p:nvPr/>
          </p:nvGrpSpPr>
          <p:grpSpPr>
            <a:xfrm>
              <a:off x="1208880" y="3603960"/>
              <a:ext cx="3174840" cy="1697400"/>
              <a:chOff x="1208880" y="3603960"/>
              <a:chExt cx="3174840" cy="1697400"/>
            </a:xfrm>
          </p:grpSpPr>
          <p:sp>
            <p:nvSpPr>
              <p:cNvPr id="129" name="Line 35"/>
              <p:cNvSpPr/>
              <p:nvPr/>
            </p:nvSpPr>
            <p:spPr>
              <a:xfrm flipV="1">
                <a:off x="2635200" y="5030640"/>
                <a:ext cx="174852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2635200" y="3603960"/>
                <a:ext cx="174852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37"/>
              <p:cNvSpPr/>
              <p:nvPr/>
            </p:nvSpPr>
            <p:spPr>
              <a:xfrm flipH="1" rot="16200000">
                <a:off x="1265400" y="3741120"/>
                <a:ext cx="1697400" cy="1423080"/>
              </a:xfrm>
              <a:prstGeom prst="can">
                <a:avLst>
                  <a:gd name="adj" fmla="val 2717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1248480" y="4486680"/>
                <a:ext cx="3250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1208880" y="387576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1208880" y="428328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1208880" y="407952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1208880" y="469044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1208880" y="489420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44"/>
              <p:cNvSpPr/>
              <p:nvPr/>
            </p:nvSpPr>
            <p:spPr>
              <a:xfrm flipH="1" rot="16200000">
                <a:off x="813600" y="4193640"/>
                <a:ext cx="1697400" cy="517680"/>
              </a:xfrm>
              <a:prstGeom prst="can">
                <a:avLst>
                  <a:gd name="adj" fmla="val 50000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 flipH="1">
                <a:off x="1208880" y="489240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 flipH="1">
                <a:off x="1208880" y="469044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 flipH="1">
                <a:off x="1208880" y="44866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 flipH="1">
                <a:off x="1208880" y="42832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 flipH="1">
                <a:off x="1208880" y="40795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 flipH="1">
                <a:off x="1208880" y="387576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1921680" y="4486680"/>
                <a:ext cx="2331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 flipV="1">
                <a:off x="2827080" y="4623120"/>
                <a:ext cx="1426320" cy="666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 flipV="1">
                <a:off x="2827080" y="4758840"/>
                <a:ext cx="1426320" cy="135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 flipV="1">
                <a:off x="2827080" y="4893840"/>
                <a:ext cx="1426320" cy="203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2827080" y="4283280"/>
                <a:ext cx="1426320" cy="680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6"/>
              <p:cNvSpPr/>
              <p:nvPr/>
            </p:nvSpPr>
            <p:spPr>
              <a:xfrm>
                <a:off x="2827080" y="4079520"/>
                <a:ext cx="1426320" cy="1364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7"/>
              <p:cNvSpPr/>
              <p:nvPr/>
            </p:nvSpPr>
            <p:spPr>
              <a:xfrm>
                <a:off x="2827080" y="3875760"/>
                <a:ext cx="1426320" cy="2037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56880" y="5097960"/>
                <a:ext cx="970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9"/>
              <p:cNvSpPr/>
              <p:nvPr/>
            </p:nvSpPr>
            <p:spPr>
              <a:xfrm flipH="1">
                <a:off x="1208880" y="50911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60"/>
            <p:cNvSpPr/>
            <p:nvPr/>
          </p:nvSpPr>
          <p:spPr>
            <a:xfrm>
              <a:off x="7186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2"/>
            <p:cNvSpPr/>
            <p:nvPr/>
          </p:nvSpPr>
          <p:spPr>
            <a:xfrm>
              <a:off x="6806160" y="522180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3"/>
            <p:cNvSpPr/>
            <p:nvPr/>
          </p:nvSpPr>
          <p:spPr>
            <a:xfrm>
              <a:off x="611280" y="548064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4"/>
            <p:cNvSpPr/>
            <p:nvPr/>
          </p:nvSpPr>
          <p:spPr>
            <a:xfrm>
              <a:off x="3463920" y="5480640"/>
              <a:ext cx="211932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5"/>
            <p:cNvSpPr/>
            <p:nvPr/>
          </p:nvSpPr>
          <p:spPr>
            <a:xfrm>
              <a:off x="6453000" y="555876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nw0461-n"/>
          <p:cNvPicPr/>
          <p:nvPr/>
        </p:nvPicPr>
        <p:blipFill>
          <a:blip r:embed="rId1"/>
          <a:stretch/>
        </p:blipFill>
        <p:spPr>
          <a:xfrm>
            <a:off x="185760" y="1125360"/>
            <a:ext cx="8202600" cy="222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ath027"/>
          <p:cNvPicPr/>
          <p:nvPr/>
        </p:nvPicPr>
        <p:blipFill>
          <a:blip r:embed="rId2"/>
          <a:stretch/>
        </p:blipFill>
        <p:spPr>
          <a:xfrm>
            <a:off x="0" y="3645000"/>
            <a:ext cx="4267080" cy="88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ath028"/>
          <p:cNvPicPr/>
          <p:nvPr/>
        </p:nvPicPr>
        <p:blipFill>
          <a:blip r:embed="rId3"/>
          <a:stretch/>
        </p:blipFill>
        <p:spPr>
          <a:xfrm>
            <a:off x="4386240" y="3141720"/>
            <a:ext cx="4494240" cy="93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math029"/>
          <p:cNvPicPr/>
          <p:nvPr/>
        </p:nvPicPr>
        <p:blipFill>
          <a:blip r:embed="rId4"/>
          <a:stretch/>
        </p:blipFill>
        <p:spPr>
          <a:xfrm>
            <a:off x="1320840" y="4797360"/>
            <a:ext cx="641988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50920" y="344520"/>
            <a:ext cx="889308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"/>
              </a:rPr>
              <a:t>Bernoulli’s Equation in terms of Flui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½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v</a:t>
            </a:r>
            <a:r>
              <a:rPr b="1" lang="en-AU" sz="2400" spc="-1" strike="noStrike" baseline="30000">
                <a:solidFill>
                  <a:srgbClr val="1a0ffd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g h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ach term has the dimensions of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/ volum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densit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KE of bulk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g h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GPE f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loca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pressure energy density arising from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internal forces wit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ving fluid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similar to energy stored in a sp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Transformation of SI Units to Joule/meter</a:t>
            </a:r>
            <a:r>
              <a:rPr b="1" lang="en-AU" sz="2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= energy/volu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[Pa] = [N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 h  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] = [kg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3276720" y="333360"/>
            <a:ext cx="54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starting with the law of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E:\Media\Image_Library\chapter14\1416.jpg"/>
          <p:cNvPicPr/>
          <p:nvPr/>
        </p:nvPicPr>
        <p:blipFill>
          <a:blip r:embed="rId1"/>
          <a:stretch/>
        </p:blipFill>
        <p:spPr>
          <a:xfrm>
            <a:off x="468360" y="692280"/>
            <a:ext cx="2689200" cy="567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3733920" y="1846440"/>
                <a:ext cx="5211720" cy="42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 </m:t>
                        </m:r>
                        <m:r>
                          <m:t xml:space="preserve">incompressible</m:t>
                        </m:r>
                        <m:r>
                          <m:rPr>
                            <m:lit/>
                            <m:nor/>
                          </m:rPr>
                          <m:t xml:space="preserve"> fluid: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ider a given mass of fluid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Δt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Bernoulli’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5092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ady fl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v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compressible and nonvisc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uid are related by an equation discovered by Daniel Bernoulli (1700–178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nw0465-n"/>
          <p:cNvPicPr/>
          <p:nvPr/>
        </p:nvPicPr>
        <p:blipFill>
          <a:blip r:embed="rId1"/>
          <a:stretch/>
        </p:blipFill>
        <p:spPr>
          <a:xfrm>
            <a:off x="741240" y="3068640"/>
            <a:ext cx="78487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250920" y="476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equation as Conserva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Media\Image_Library\chapter14\1418.jpg"/>
          <p:cNvPicPr/>
          <p:nvPr/>
        </p:nvPicPr>
        <p:blipFill>
          <a:blip r:embed="rId1"/>
          <a:stretch/>
        </p:blipFill>
        <p:spPr>
          <a:xfrm>
            <a:off x="76320" y="1523880"/>
            <a:ext cx="4033800" cy="456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657600" y="992160"/>
                <a:ext cx="5332320" cy="502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-work relationship 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piece</m:t>
                        </m:r>
                        <m:r>
                          <m:rPr>
                            <m:lit/>
                            <m:nor/>
                          </m:rPr>
                          <m:t xml:space="preserve"> of fluid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→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ΔV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ρΔV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00:37:58Z</dcterms:created>
  <dc:creator>cooper</dc:creator>
  <dc:description/>
  <dc:language>en-US</dc:language>
  <cp:lastModifiedBy>RomaK</cp:lastModifiedBy>
  <dcterms:modified xsi:type="dcterms:W3CDTF">2015-09-03T12:20:36Z</dcterms:modified>
  <cp:revision>62</cp:revision>
  <dc:subject/>
  <dc:title>Slide 1</dc:title>
</cp:coreProperties>
</file>